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23BD-0D4F-4B55-8815-E2D4C5CB8DB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etry 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s for itself and for something beyond itself as well. (The bald eagle symbolizes the United State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bolism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s for itself and for something beyond itself as well. (The bald eagle symbolizes the United States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bolism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petition of the same consonant sounds in a line of poetry. (seven silver swans swam”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ter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petition of the same consonant sounds in a line of poetry. (seven silver swans swam”)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iter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milarity of ending sounds existing in lines of poetry. Internal: rhyme within the line of poetry. End: rhyme at the end of a line of poe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ym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imilarity of ending sounds existing in lines of poetry. Internal: rhyme within the line of poetry. End: rhyme at the end of a line of poe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ym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petition of identical or similar vowel sounds, especially in stressed syll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nanc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petition of identical or similar vowel sounds, especially in stressed syll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sonanc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ing human characteristics to a lifeless object. (“This poetry gets bored of being alone, it wants to go outdoors to chew on the winds.” “Living Poetry” by Hugo Margen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onific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ing human characteristics to a lifeless object. (“This poetry gets bored of being alone, it wants to go outdoors to chew on the winds.” “Living Poetry” by Hugo Margen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ific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phor that is developed over several lines of writing or throughout the poem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ded 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phor that is developed over several lines of writing or throughout the poem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ded 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of speech that expresses the comparison of two objects using like or as (as snug as a bug in a ru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using like or as (as snug as a bug in a ru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il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otation: attitudes and feelings associated with a word. (thrifty vs. sting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otation:  the dictionary definition of a word (literal mean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otation/Denot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otation: attitudes and feelings associated with a word. (thrifty vs. sting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notation:  the dictionary definition of a word (literal mean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otation/Denot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of speech that expresses the comparison of two objects without using like or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without using like or 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of poetry that contains five iambs. “But soft! What light through yonder window brea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mbic Pentame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of poetry that contains five iambs. “But soft! What light through yonder window break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ambic Pentamete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oem that displays the thoughts and feelings of the poe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yric Poetr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oem that displays the thoughts and feelings of the poet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ric Poetr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bination of terms that appears to contradict one another. “jumbo shrimp; stupid genius; small crow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mor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bination of terms that appears to contradict one another. “jumbo shrimp; stupid genius; small crow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mor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egies that authors use to use literary devices such as metaphors, simile, repetition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ative Languag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your own exa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egies that authors use to use literary devices such as metaphors, simile, repetition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ative Languag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 your own exam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raditional poem that tells a historic story or a popular belief; often deals with heroes, the supernatural, or ancestor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raditional poem that tells a historic story or a popular belief; often deals with heroes, the supernatural, or ancestors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yth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tterned flow of sou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ythm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atterned flow of soun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ythm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ptive term used to characterize a person or a 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the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ve term used to characterize a person or a 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the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 or group of words which appeal to one or more of the senses: sight, taste, touch, hearing, and smell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r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 or group of words which appeal to one or more of the senses: sight, taste, touch, hearing, and smell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r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words to suggest the comparison such as love “bursts into bloom.” It does not directly state the compari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ed 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words to suggest the comparison such as love “bursts into bloom.” It does not directly state the comparison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lied 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ory poem that often celebrates a hero or legend (Odysseus or Hercu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ory poem that often celebrates a hero or legend (Odysseus or Hercul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c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are pronounced to imitate their sounds (buzz, fizz, click, zoom, chirp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omatopoei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s that are pronounced to imitate their sounds (buzz, fizz, click, zoom, chirp)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omatopoeia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4F5-7BAE-4BD1-9BD8-70256BD1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CB1-D202-4E7B-8A6F-60A73D16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D84-5B18-456C-A400-CFBAFB8B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CA90-4156-4D38-BBA8-4EE972F8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270D-F3DF-4D33-847D-C8EB72B3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B387-5F3F-49A7-ABB1-E9F1B79F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1571-B72C-4DDA-BB60-F1A22767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1CB3-65A8-4967-BDD5-DAEF271C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CAB8-F04B-4449-B08F-519330A0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5A95-6397-4792-B815-79ADFFA9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C808-B8B7-4615-8916-155A1E57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746-D139-47C1-80B2-7328EC72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303D-8538-4705-B8E8-9A5A0782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BA43-6194-4D08-BFB4-EA8E1C62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3FDE-FD2D-47D8-B193-5DCAC89A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9037-538C-49B1-AAC5-F48B7DE8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A477-2D0B-4A83-BE93-4F7F7AC2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D9273-9418-473B-A9B0-EB41F855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10690-0945-4DC2-8FA0-982538AA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00EAC-70F6-489A-B149-48D6174D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1E998-8DF5-44D2-9977-9AEC2953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F012A-9FA5-4F30-A3D0-3C5A22DB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8A8-FF76-4DE7-9B14-3D8786E4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B7B12-8D59-492B-B51C-5E35CE6C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23428-8621-4D3C-9245-16212FE5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0DD56-9C3E-4D38-A815-1EF635B6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59DE0-CDA6-4510-AF13-3A1537E7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086EE-DA65-453F-A5C2-5FE11861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569B6-AF67-47D8-8ED4-E2118D3E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B1236-154F-4CD8-B91A-734FFB36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EBBCE-EBDC-448C-AA5A-11AF16E8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7C9CC-EC86-4DA6-9E8B-DA10AD20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17FDE-D92B-443A-B352-93362592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6AC7-0363-46A8-9DB3-69CE6616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EF47C-D92D-4DBC-A0BA-FFB29E52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C81BD-8BAB-4CF8-8FB6-A624EB52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A0700-9AB4-44CB-9D33-6793ADAC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51B95-E2E7-43D1-AD2D-7EF1509B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571FC-6357-44DF-AF5B-03DCA7CC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E28C2-4ACF-4F45-BA48-428123A7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17106-76B0-4B91-8EAE-6D38DD16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D0720-E9C1-493B-AEDF-7310A7AE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48845-BAA7-4178-B59E-AC4CFB35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5D07D-543D-45C9-B370-4D90B773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EA05-8DF6-4CDF-B9F7-83BA72A5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72E9A-3709-4FAC-A68B-F63ECC6A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BFA5B-E2EB-4BC1-BA49-0C7B2046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4549C-04F4-4C12-BC19-FB11E0F9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72012-1FB9-4EB4-848A-7A839FE3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8CD4E-0873-4002-A2F9-23E0C2EE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9B26D-5674-4557-B44D-4BE17142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99DD0-8FE1-4782-AC8C-7232DE34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BBFCF-ADBD-4E1D-AF38-B5FE275F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620A2-6881-4FEE-9359-44472ACD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797B6-0FB5-4EE9-BD81-3BEB2821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821-42F0-4206-8AEE-3F0D19D0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59422-C675-45B1-B4E8-A7585AB1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72ECB-206C-4542-B4A4-E08CC2B2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0460A-4B15-4858-9875-9C62BC71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4CF5D-F71E-4991-B92B-E4E3C923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2DBB4-6272-4115-852E-458C1CCD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05A6A-74B5-4940-91CC-92B2134B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B0484-E609-4450-A5EC-365D4007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77A8E-21C6-4555-896F-9B8B0D4B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DD29A-6DBB-4232-8F67-418F589A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8DF5E-1137-43E3-ACA5-64A76124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11D-244F-4554-890F-CED57153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33CD4-4AC2-476B-8827-B91C138D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E048E-8A14-436E-9C35-4134F36C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EC134-0E2B-4DAC-A26B-A4BF632F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593-EE53-4949-8D6B-BE948E09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D3A-A440-44AA-8F17-CCEFBF8E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387A-673A-4A46-A7A7-FE3D63E1911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2DB3-3CBF-4722-B8F7-0D48420B519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7735-860B-4523-8786-6345FCFDF7E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0AA2-4B2C-4FD1-9FB7-0B902F3FB91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F12E-CEA9-4B3E-A339-93EA4D31109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58AD-B60A-4752-A466-C83D6EDCA87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689040" y="2425680"/>
            <a:ext cx="743724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tands for itself and for something beyond itself as well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e bald eagle symbolizes the United States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Symbolism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85200" indent="-3517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repetition of the same consonant sounds in a line of poetry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ven silver swans swam”)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lliterati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8080" y="23619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imilarity of ending sounds existing in lines of poetry. Internal: rhyme within the line of poetry. End: rhyme at the end of a line of poetr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Rhym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8080" y="251460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repetition of identical or similar vowel sounds, especially in stressed syllabl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ssonanc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oviding human characteristics to a lifeless objec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 (“This poetry gets bored of being alone, it wants to go outdoors to chew on the winds.” “Living Poetry” by Hugo Margen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ersonificati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taphor that is developed over several lines of writing or throughout the poem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80880" y="76212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Extended Metaphor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8080" y="22860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8640" indent="-336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using like or as (as snug as a bug in a rug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68640" indent="-336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Simil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8080" y="25142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notation: attitudes and feelings associated with a word. (thrifty vs. sting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otation:  the dictionary definition of a word (literal meaning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219320" y="7621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nnotation/Denotation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8080" y="251424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</a:t>
            </a:r>
            <a:r>
              <a:rPr b="1" lang="en-US" sz="5000" spc="-1" strike="noStrike" u="sng">
                <a:solidFill>
                  <a:srgbClr val="ffffff"/>
                </a:solidFill>
                <a:uFillTx/>
                <a:latin typeface="Arial"/>
              </a:rPr>
              <a:t>without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using like or 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Metaphor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33160" y="182880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line of poetry that contains five iambs. “But soft! What light through yonder window break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609480" y="76212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Iambic Pentameter</a:t>
            </a:r>
            <a:br>
              <a:rPr sz="18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0880" y="20570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small poem that displays the thoughts and feelings of the poet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Lyric Poetry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990720" y="19807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76920" indent="-34416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mbination of terms that appears to contradict one another. “jumbo shrimp; stupid genius; small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owd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Oxymor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685800" y="25146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ategies that authors use to use literary devices such as metaphors, simile, repetition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04920" y="76212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Figurative Language</a:t>
            </a:r>
            <a:br>
              <a:rPr sz="1800"/>
            </a:b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4"/>
          <p:cNvSpPr/>
          <p:nvPr/>
        </p:nvSpPr>
        <p:spPr>
          <a:xfrm>
            <a:off x="228600" y="4648320"/>
            <a:ext cx="7543800" cy="1295280"/>
          </a:xfrm>
          <a:prstGeom prst="ellipse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ce your own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76176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 traditional poem that tells a historic story or a popular belief; often deals with heroes, the supernatural, or ancestors </a:t>
            </a:r>
            <a:br>
              <a:rPr sz="28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52480" y="5335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Myth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patterned flow of sound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Rhythm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761760" y="236196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escriptive term used to characterize a person or a th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Epithet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8080" y="1980720"/>
            <a:ext cx="7467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35160" indent="-306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ord or group of words which appeal to one or more of the senses: sight, taste, touch, hearing, and smell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Imagery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words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gg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comparison such as love “bursts into bloom.” It does no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rect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te the comparison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838080" y="762120"/>
            <a:ext cx="7620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Implied Metaphor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story poem that often celebrates a hero or lege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Odysseus or Hercu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Epic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8080" y="18288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ords that are pronounced to imitate their sounds (buzz, fizz, click, zoom, chirp)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Onomatopoeia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3:43:08Z</dcterms:created>
  <dc:creator>Tiffany Hope</dc:creator>
  <dc:description/>
  <dc:language>en-US</dc:language>
  <cp:lastModifiedBy>RomaK</cp:lastModifiedBy>
  <dcterms:modified xsi:type="dcterms:W3CDTF">2015-09-04T10:37:33Z</dcterms:modified>
  <cp:revision>20</cp:revision>
  <dc:subject/>
  <dc:title>Slide 1</dc:title>
</cp:coreProperties>
</file>